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02B2C4-7372-47FF-A761-258835C2BD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age 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Selection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ON REQUIREMENTS…Compulsory Credits…Grade 10/Grad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FBB624-D2C0-4003-9AD4-C471EB02D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ing… YOU need to research the options…the pre-requisites.  USE THE PH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Dates to remember…LISTED on the LDH Website.  (Including the Octo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ents’ N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rounds of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60% of CONDITIONAL offers are made AFTER mid-term of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m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are open early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ust be submitted around the end of January for Equal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rounds of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60% of CONDITIONAL offers are made AFTER mid-term of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m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are open early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ust be submitted around the end of January for Equal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rounds of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60% of CONDITIONAL offers are made AFTER mid-term of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m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are open early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ust be submitted around the end of January for Equal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74A00A-C939-4474-B695-4934CA2C3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Credit Counseling Summary online…or check in your first semester report car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75C-D9AF-43F7-A126-53F3D068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EA7-39B0-4602-BCD0-ADA8C168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96D-6B55-4609-83C8-71D7D643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090-F120-4F18-B06E-8B3A9778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A327-9523-46B5-B0BA-E9A6D1E5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D974-6735-4778-AB6E-92B998B7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9263-B614-4B90-AEE9-087DA521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0EDA-8781-4282-A3F3-A2D549B9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2BF6-1039-4F1C-9F82-16749F25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D98A-6DEB-4015-9A20-D45B2CC1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73C8-4D47-46C7-8583-5CC731B8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64B-88B5-4DCD-B163-E9C9E9A3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FBF6-DD28-4280-9126-387B71DF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F5E1-670D-447F-8E6A-04C78E78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3459-E9E9-4D58-864E-B3436191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874D-EA02-44A9-9F02-EB7A9F7D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FFC3-A5E5-4C93-8698-9201D906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EDDB8-E92C-479F-A8E4-409978E6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0319B-BDB5-4973-8A1C-5776EAC7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834E5-EF05-4351-8C66-7A350C99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9BEEA-AE5F-439F-A841-D34CF515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1BB93-C449-4DA3-A0D3-49B82102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505-BB23-40A3-8555-492960CD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7C31-3F2A-4FE2-A3BC-D6361738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D4719-2780-48A9-8F04-B25634F6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9C75-E893-4C96-871C-CC788489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9BB73-8A59-485B-8678-16B2F5D5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C364B-8D61-419E-BDAB-CC716E79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A76EF-117F-4494-B714-F9027D1A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46E8E-6FB1-4234-9736-57395F5E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C9D-2D7E-499E-BEA1-89BD78E6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FDA-76F0-47E0-9EB7-FB5D87B4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42C-CA19-4A44-A399-7E359459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052-D82C-4F4F-8188-7C932810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3541-CD00-4705-BB2B-3D915D8E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0E0-E5AE-47F1-9ADC-FC5C7F17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b4fc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b4fc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515D-6595-4FD7-85F6-8787D08E7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7693-9AAE-48E0-9768-B921CD307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6964-C473-49C1-B7EC-FE2FBCA34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357280" y="2238480"/>
            <a:ext cx="4429440" cy="2381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1623960"/>
            <a:ext cx="7878960" cy="27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lace? Complete an apprenticeshi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? Univers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/travel? Part-time studies/wor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p year to upgr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your strengths and interests when making a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some research to decide on op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01480" y="5964120"/>
            <a:ext cx="819972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5492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KPLACE AND APPRENTICE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op and apprenticeship programs are a great way to gain experience and make contacts if you are planning to go to work directly after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your guidance counsellor for tips on resumes, cover letters, interview skills, and letters of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Rectangle 3" descr=""/>
          <p:cNvPicPr/>
          <p:nvPr/>
        </p:nvPicPr>
        <p:blipFill>
          <a:blip r:embed="rId1"/>
          <a:stretch/>
        </p:blipFill>
        <p:spPr>
          <a:xfrm>
            <a:off x="539640" y="5772240"/>
            <a:ext cx="8172720" cy="610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arn a diploma, applied degree, collaborative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requisit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SD, ENG4C, and others depending on the specific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folios, Program tests (Math, Language, HOAE), and/or interviews are required for certain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ed degree programs and collaborative programs have university requirements (ex, Bachelor of Interior Design = applied degree, B.Sc. Nursing = collaborative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iculation agreements with universities – opportunity to continue from college into degree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920" y="1316160"/>
            <a:ext cx="82296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rn a Bachelor’s Degree (ex, BSc, BCom, BA, BF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requisi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4U or 4M courses (some schools maximum of two 4M cour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4U and specific program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cut-off averages in specific courses for specific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folios, test results, and/or interviews are required for certai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Rectangle 3" descr="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78600" cy="27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Counse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and College Vi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el By Student Services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Info  (www.electronicinfo.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ario Colleges  (www.ontariocolleges.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the university or colleg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ColBy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through www.ontariocollege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pens in early 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95 application fee for five program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, 2017 deadline for equal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, 2017 colleges may begin sending offers of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1, 2017 deadline to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7200" y="1600200"/>
            <a:ext cx="787860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22960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fers of admission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al offers of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dmission offers carefully and understand conditions pla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Rectangle 3" descr="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2372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through www.ouac.on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50 application fee for three program choices ($50 for additional cho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0 change fee for new choices – unless new program at sam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11, 2017 deadline fo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57200" y="1600200"/>
            <a:ext cx="787860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22960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fers of admission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al offers of ad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dmission offers carefully and understand conditions pla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Rectangle 3" descr="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ing admiss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offers in December/January only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lect sch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op 4 or 5 Grade 11 marks (including prerequisite cou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dmission based on grade 11/12 marks submitted to OUAC in February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dmission in April 20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with additional requirements (ie., portfolios) take longer for admission o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6, 2017 latest date to expect a response from Ontario Universities (offer of admission, refusal, defer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, 2017 deadline to accept o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Rectangle 3" descr="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.B. Student Services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ill Badgery (A-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rah Storey (G-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chel Nakashoji (P-Z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tretch/>
        </p:blipFill>
        <p:spPr>
          <a:xfrm>
            <a:off x="309600" y="6002280"/>
            <a:ext cx="8410680" cy="569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09600" y="6002280"/>
            <a:ext cx="8410680" cy="569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920" y="1316160"/>
            <a:ext cx="82296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ght differe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s of offers (Rolling admi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l application dea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 of 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ing of program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lternate o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ral process and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la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22960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 with your guidance counse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with the university or college admissions office/regist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Rectangle 3" descr=""/>
          <p:cNvPicPr/>
          <p:nvPr/>
        </p:nvPicPr>
        <p:blipFill>
          <a:blip r:embed="rId1"/>
          <a:stretch/>
        </p:blipFill>
        <p:spPr>
          <a:xfrm>
            <a:off x="461880" y="5734080"/>
            <a:ext cx="8229600" cy="614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268280" y="1854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61920" y="1969920"/>
            <a:ext cx="706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6160" y="1409760"/>
            <a:ext cx="748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 PROGRA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-Graduate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Degre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cine, Law, Dentistry, Education, Pharmacy, Physiotherapy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-Graduate Degrees: completed following undergraduate 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 OUTSIDE OF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ines and application processes must be completed directly through university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cripts can be requested through Guidance secretary, Ms. Jarre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and other International applications require students to contact guidance counsellor to advise A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69880"/>
            <a:ext cx="8229600" cy="38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ola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niversity, entrance admission scholarships based on marks (80%+) do not requir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rit ba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olarships include prerequisite courses in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universities reassess scholarship offers if admission average increases or de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s of scholarships are university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llege, no entrance admission scholarships, but many internal/external scholarship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Rectangle 3" descr="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188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OLARSHIPS &amp; BURS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1880" y="135576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el By Student Service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scholarshipscanada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Yconic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and College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ance Counsel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61880" y="1585800"/>
            <a:ext cx="787896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ST-SECONDARY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ition fees range $5,000-$16,000/year, plus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ce fees $4,800-$15,000 (+/- meal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openly discuss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AP (estimator tool; loans and grants)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osap.gov.on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to OSAP program 2017/2018 (30% Ontario tuition grant to be replaced by Ontario Student Gr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AP applications available online in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5560" y="1431720"/>
            <a:ext cx="7878600" cy="29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AC pins will be distributed through English classes as soon as they arrive (mid-Nove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be a stressful process.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y ca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s, please be supportive, informed, and real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s, please be informed, realistic, and commun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you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60" y="-10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175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.B. Student Services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ll Badgery (A-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ah Storey (H-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hel Nakashoji (Q-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Rectangle 3" descr=""/>
          <p:cNvPicPr/>
          <p:nvPr/>
        </p:nvPicPr>
        <p:blipFill>
          <a:blip r:embed="rId1"/>
          <a:stretch/>
        </p:blipFill>
        <p:spPr>
          <a:xfrm>
            <a:off x="231840" y="5964120"/>
            <a:ext cx="8564400" cy="614520"/>
          </a:xfrm>
          <a:prstGeom prst="rect">
            <a:avLst/>
          </a:prstGeom>
          <a:ln w="0">
            <a:noFill/>
          </a:ln>
        </p:spPr>
      </p:pic>
      <p:pic>
        <p:nvPicPr>
          <p:cNvPr id="224" name="Rectangle 3" descr=""/>
          <p:cNvPicPr/>
          <p:nvPr/>
        </p:nvPicPr>
        <p:blipFill>
          <a:blip r:embed="rId2"/>
          <a:stretch/>
        </p:blipFill>
        <p:spPr>
          <a:xfrm>
            <a:off x="4417920" y="1469880"/>
            <a:ext cx="403884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5920" y="77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lonel By </a:t>
            </a:r>
            <a:br>
              <a:rPr sz="44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ST SECONDARY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9240" y="2506320"/>
            <a:ext cx="7878600" cy="29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you go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get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7760" y="6232680"/>
            <a:ext cx="8486640" cy="511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47760" y="6232680"/>
            <a:ext cx="8486640" cy="511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7400" y="1355400"/>
            <a:ext cx="7878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RADUATION REQUIREMENTS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you submitted 40 community involvement hou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you passed the Literacy Test or Literacy Cou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 many credits have you ear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 many credits do you still require? (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is the magic nu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ich compulsory credits do you still requi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8680" y="5964120"/>
            <a:ext cx="819936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your Credit Counselling Summa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ario Literacy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ion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ty Involve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cy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Rectangle 3"/>
          <p:cNvGraphicFramePr/>
          <p:nvPr/>
        </p:nvGraphicFramePr>
        <p:xfrm>
          <a:off x="457200" y="2911320"/>
          <a:ext cx="8229600" cy="19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11320"/>
                    <a:ext cx="8229600" cy="19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 / Completed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Rectangle 3"/>
          <p:cNvGraphicFramePr/>
          <p:nvPr/>
        </p:nvGraphicFramePr>
        <p:xfrm>
          <a:off x="457200" y="2155680"/>
          <a:ext cx="8229600" cy="34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55680"/>
                    <a:ext cx="822960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Rectangle 3"/>
          <p:cNvGraphicFramePr/>
          <p:nvPr/>
        </p:nvGraphicFramePr>
        <p:xfrm>
          <a:off x="914400" y="1828800"/>
          <a:ext cx="693432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693432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Rectangle 3" descr=""/>
          <p:cNvPicPr/>
          <p:nvPr/>
        </p:nvPicPr>
        <p:blipFill>
          <a:blip r:embed="rId3"/>
          <a:stretch/>
        </p:blipFill>
        <p:spPr>
          <a:xfrm>
            <a:off x="914400" y="4340160"/>
            <a:ext cx="6934320" cy="1065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uation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Rectangle 3"/>
          <p:cNvGraphicFramePr/>
          <p:nvPr/>
        </p:nvGraphicFramePr>
        <p:xfrm>
          <a:off x="457200" y="2817720"/>
          <a:ext cx="822960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7720"/>
                    <a:ext cx="822960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23:04:50Z</dcterms:created>
  <dc:creator>HP Authorized Customer</dc:creator>
  <dc:description/>
  <dc:language>en-US</dc:language>
  <cp:lastModifiedBy>C32954</cp:lastModifiedBy>
  <dcterms:modified xsi:type="dcterms:W3CDTF">2016-10-25T20:15:04Z</dcterms:modified>
  <cp:revision>149</cp:revision>
  <dc:subject/>
  <dc:title>Slide 1</dc:title>
</cp:coreProperties>
</file>